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E63AE9E-3EB6-4841-B66B-D39412A954C7}"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25A7F83-FA81-4864-92DF-80FC5580EDB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EEBBB-FB8F-446F-91B8-DBFDC879E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8F2A-642C-4A09-94DE-9CA635EC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76E38-9BCA-479E-A28B-87010D220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26C38-5478-4E75-B9A5-0C96FC3D7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05F9C-5699-4999-9876-39B3F3E0D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1CA1-68A7-4040-BD3D-800030482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96E7B-6323-4B0E-8511-7FEAD48A9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3B61B-8FEB-4DAC-899A-86AEFAE93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252FA-237F-4E8F-AF08-F655FD264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8C0E-E8BC-4819-9F4E-07D96694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EA06-DA03-4EBD-B7B4-D6217620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B80A-C3FD-448F-BFA6-129AF5C36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3A03-F7A9-4800-8D3D-03764546156F}"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2A01-203A-498B-ABBE-120B7D6018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2487-84AE-4FF1-B2D1-2F9CC02CB3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E29D-7D90-49DE-A05C-14E0A3D9EC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05B5-05E6-47E9-9605-2C0F6490E4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7EED-DAF0-4F8E-A728-48B484283B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6189-251D-42B2-9B4E-4B7E222889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7834-EB87-4739-B345-F67F2564D6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72ED-F0BF-441F-A4F4-B29140B1A1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B32A-35C7-4C6F-8CFE-86213426FB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9865-8063-423B-974B-52EE88A07A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A661-7200-4E7F-82D0-292BE0E618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5BC2-1BAD-435E-BE67-92E76A26E2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AB28-74E1-4C96-917C-098851DCE8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8741-C495-4FF4-98DD-8B22BC48FB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6B8D-6989-48E0-8CE8-7CFC339BDF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8438-CEBC-4CAF-843F-9DD32E2162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844D-4646-47BC-97AB-B0DEC54055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93AB-D2C6-4037-8B8F-9899D2B6FA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01FB-E812-4045-A036-BA99590E22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1CC6-EEF2-4E6E-B925-C3947C3EC9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C0D8-1E39-4DF6-9AC7-69F71436A3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EA25-F72A-4FAF-8083-E921F9A21B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83BD-CA83-45D8-A006-9B0138249D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E576-1EAE-4389-91A4-EF238E33DD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0BA-10E0-4798-A272-928F0D988F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6486-AB35-4E7C-A422-390CA0FDFA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A04E-E3A2-466E-8734-728E0BB009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0A91-BAEA-4096-B994-05791F55F2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E5F4-30C4-4962-9760-354D1D1CC3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BECE-2AD9-480B-938F-8549C0C78B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041A-B14E-4DB2-A13A-16510466346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A66B-B2A3-4738-9B5B-A8BE19A7FC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B0F2-4E7F-4CB4-89DB-280BDA37F6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C2C5-1904-43FF-B14F-14373807FB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3D6F-6A5E-4108-9355-C6622DBCC3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24FA-BC36-4418-AB35-EA60327201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A7C7-57E5-4C0B-AC50-D09A757173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34D6-062F-4006-9CA1-9AB0CE5A9C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FBBC-980E-4AD7-B997-97DD69493E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0CB9-6A73-481D-9634-C355E4B128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BE40-295A-4FD4-881E-B552F14A65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1-24T11:27:36Z</dcterms:modified>
  <cp:revision>73</cp:revision>
  <dc:subject/>
  <dc:title>Aims and Objectives</dc:title>
</cp:coreProperties>
</file>